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6.wmf" ContentType="image/x-wmf"/>
  <Override PartName="/ppt/media/image7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B8A9-3D9E-4517-90E1-5E083DBF4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606A-2C93-4DCC-99F7-36ECC35F5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FE0B-52D5-4189-B9EE-E9BD73734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469E-9F49-4059-8C4C-3C600CD7E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C0E3-F49B-46CD-8B76-9AB841BB7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7F69-A8AC-4829-9044-16CED3D15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5A78-08CA-4A1A-842B-66FB4980D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E7C8-8CF2-448A-9003-3D9248EED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DF9E-D1F9-4EDD-9D6E-17A37D9DE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3DAA-97DE-499E-BE5E-77CDD528B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B974-5CD6-461D-987B-9091DD1FF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AA91-2D81-487E-8617-B067070A4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7E5E-B8EA-4198-934A-792A6C92E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A132-376C-4B4A-A169-DEBAC2FF5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A15F-49FB-4613-BBBB-17CF7F2F5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C2B7-009B-4B1F-BB51-0EE600314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90F-4E38-4700-A1DA-12137B93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57F-14ED-41CB-B661-BCC281E7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BC6-BDBD-4308-AE00-9E61DE79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48F-43B7-4C90-8558-D3985F8E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B6A-F4E0-4FEF-99FE-15548352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787-7C7F-493C-BAAC-1CA5F90D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EA8-AA38-447D-A95D-0B1B4426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715-F521-45FA-9D1B-A3CF691D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3F4-B07B-4C95-8C9F-B29648F7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46B-203F-41A6-8E45-4167BE95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D20-0799-46A7-8773-DC093422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B7F-76FB-4290-952E-AABFDB8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796C-33FB-450D-A193-3374AC0AE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s and Kingd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rchaea, Bacteria, Eukar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ist, Fungi,Plant,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. Wagenborg 7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: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erform photosynthesis and do not eat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es Absorb nutrients from their surroundings and juices break down the substances for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 fungi are pois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hrooms,  mol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ld bread or cheese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t fun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imgres.jpg"/>
          <p:cNvPicPr/>
          <p:nvPr/>
        </p:nvPicPr>
        <p:blipFill>
          <a:blip r:embed="rId1"/>
          <a:stretch/>
        </p:blipFill>
        <p:spPr>
          <a:xfrm>
            <a:off x="685800" y="4648320"/>
            <a:ext cx="3492360" cy="157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images.jpg"/>
          <p:cNvPicPr/>
          <p:nvPr/>
        </p:nvPicPr>
        <p:blipFill>
          <a:blip r:embed="rId2"/>
          <a:stretch/>
        </p:blipFill>
        <p:spPr>
          <a:xfrm>
            <a:off x="4648320" y="4419720"/>
            <a:ext cx="3492360" cy="184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imgres.jpg"/>
          <p:cNvPicPr/>
          <p:nvPr/>
        </p:nvPicPr>
        <p:blipFill>
          <a:blip r:embed="rId3"/>
          <a:stretch/>
        </p:blipFill>
        <p:spPr>
          <a:xfrm>
            <a:off x="685800" y="1981080"/>
            <a:ext cx="3479760" cy="211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mgres.jpg"/>
          <p:cNvPicPr/>
          <p:nvPr/>
        </p:nvPicPr>
        <p:blipFill>
          <a:blip r:embed="rId4"/>
          <a:stretch/>
        </p:blipFill>
        <p:spPr>
          <a:xfrm>
            <a:off x="4724280" y="1981080"/>
            <a:ext cx="34927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: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cel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food through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kingdoms depend on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ood/nutrients for the other kingd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abitats for other kingd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es, roses, sunflowers, fer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6629400" y="1981080"/>
            <a:ext cx="18162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4191120" y="3809880"/>
            <a:ext cx="1726920" cy="2032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images.jpg"/>
          <p:cNvPicPr/>
          <p:nvPr/>
        </p:nvPicPr>
        <p:blipFill>
          <a:blip r:embed="rId3"/>
          <a:stretch/>
        </p:blipFill>
        <p:spPr>
          <a:xfrm>
            <a:off x="660240" y="2892600"/>
            <a:ext cx="328932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: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sense organs-able to respond to thei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 on plants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 on bacteria and fungi to recycle nutrients in dead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dog, eagle, turtle, sponge(c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move but c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make its own f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24480" y="2971800"/>
            <a:ext cx="1435320" cy="151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6019920" y="4952880"/>
            <a:ext cx="1625400" cy="107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1066680" y="3048120"/>
            <a:ext cx="1625760" cy="107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4"/>
          <a:stretch/>
        </p:blipFill>
        <p:spPr>
          <a:xfrm>
            <a:off x="3429000" y="2971800"/>
            <a:ext cx="1816200" cy="135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5"/>
          <a:stretch/>
        </p:blipFill>
        <p:spPr>
          <a:xfrm>
            <a:off x="1371600" y="4648320"/>
            <a:ext cx="19051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ges in the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16131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1905120" y="3352680"/>
            <a:ext cx="2590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entirely of Archa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(Single Cell,No Nucle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ea means ancient- has survived for a lo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extreme environments-the hottest of the hot (hot springs), the coldest of the cold (deep oc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2210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Yellowstone National Park (Old Faithful Hot Sp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The Dead Sea (High Salt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swamps and soils (High Amounts of Methane G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entirely of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(single cell,no nucle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humans, soil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kind-turns milk into yogurt, helps with digestion in the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kind-causes pneumonia, sickness and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 col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d bacteria in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247680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3378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Euk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rganisms that contain cells with a nucleus and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the Kingdoms: Protists, Funji, Plant and 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: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 that cannot fit into any other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from bacteria and evolved into plants,fungi 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ink about fish tanks and po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me m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             Kelp               Water 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400800" y="2819520"/>
            <a:ext cx="1676520" cy="213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180324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imgres.jpg"/>
          <p:cNvPicPr/>
          <p:nvPr/>
        </p:nvPicPr>
        <p:blipFill>
          <a:blip r:embed="rId3"/>
          <a:stretch/>
        </p:blipFill>
        <p:spPr>
          <a:xfrm>
            <a:off x="2743200" y="274320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3:38:56Z</dcterms:created>
  <dc:creator>School District of Philadelphia</dc:creator>
  <dc:description/>
  <dc:language>en-US</dc:language>
  <cp:lastModifiedBy>William Wagenborg</cp:lastModifiedBy>
  <dcterms:modified xsi:type="dcterms:W3CDTF">2015-10-06T16:29:19Z</dcterms:modified>
  <cp:revision>19</cp:revision>
  <dc:subject/>
  <dc:title>Six Kingdoms</dc:title>
</cp:coreProperties>
</file>